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5D36-BE6A-4450-9E91-F798A54D44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D3E2-332F-470F-8232-DDC2EB44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7CBD-2BF8-44D9-9A1A-AAFD57CD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D52D-18FD-478D-9043-0C42FB69D0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4D0D-65E0-40E9-81F1-7AB7B977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5973-34D5-4297-877F-669CB54F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69FD-817A-4810-8BC6-9C4C011B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66A4-53B4-41FE-9838-BF21C3BC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3876-2089-4361-A3F8-04C590F0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6A68-3C2E-4B9D-85C3-28382B41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B690-AC5E-49E5-B501-2ABA3096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4167-3CBA-46D7-AEAC-33AC7EAB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9174-56ED-442E-B56F-837995074F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第十四节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便  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4762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抑郁症和焦虑障碍的患者也常常伴有胃肠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3" descr="20072813431483"/>
          <p:cNvPicPr/>
          <p:nvPr/>
        </p:nvPicPr>
        <p:blipFill>
          <a:blip r:embed="rId1"/>
          <a:stretch/>
        </p:blipFill>
        <p:spPr>
          <a:xfrm>
            <a:off x="5580000" y="1773360"/>
            <a:ext cx="3216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药物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长期服泻药、灌肠等因素也可引起肠壁神经麻痹，导致便秘的发生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2" name="Picture 4" descr="yfzx_dwxm_5"/>
          <p:cNvPicPr/>
          <p:nvPr/>
        </p:nvPicPr>
        <p:blipFill>
          <a:blip r:embed="rId1"/>
          <a:stretch/>
        </p:blipFill>
        <p:spPr>
          <a:xfrm>
            <a:off x="3924360" y="3716280"/>
            <a:ext cx="3784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器质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梗阻、肠粘连、肠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腔或盆腔内肿瘤压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直肠或肛门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数减少，粪便量少，干结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、下坠感、排便不尽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门疼痛、肛裂、痔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便秘的危害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640" y="1052640"/>
            <a:ext cx="84362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皮肤粘膜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皮肤色素沉着，面色灰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消化道系统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可导致患者出现食欲不振、腹部胀满、嗳气、口苦、肛门排气多等表现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用力排便会导致肛裂、痔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肠壁长期受粪便刺激，增加了其癌变的发生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心血管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诱发下肢静脉曲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心绞痛，心肌梗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脑出血，颅内压增高，甚至脑疝等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神经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毒素吸收入血可导致患者出现记忆力下降，注意力不集中，思维迟缓等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疾病史、药物史、饮食、心理、环境、活动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排便频率、性状、量、费力程度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对功能性健康型态的影响：有无肛周疼痛、知识、心理应对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诊断、治疗及护理经过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护理诊断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组织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便秘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各类便秘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便秘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用自己的语言解释便秘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2680"/>
            <a:ext cx="85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便秘是指排便频率减少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周少于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便干结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并常有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便困难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感觉。</a:t>
            </a:r>
            <a:endParaRPr b="1" lang="en-US" sz="3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  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4" descr="20060819230220954"/>
          <p:cNvPicPr/>
          <p:nvPr/>
        </p:nvPicPr>
        <p:blipFill>
          <a:blip r:embed="rId1"/>
          <a:stretch/>
        </p:blipFill>
        <p:spPr>
          <a:xfrm>
            <a:off x="6013440" y="3600360"/>
            <a:ext cx="2658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01300000201178121767511097223"/>
          <p:cNvPicPr/>
          <p:nvPr/>
        </p:nvPicPr>
        <p:blipFill>
          <a:blip r:embed="rId1"/>
          <a:stretch/>
        </p:blipFill>
        <p:spPr>
          <a:xfrm>
            <a:off x="5869080" y="1773360"/>
            <a:ext cx="300348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2360" y="1486080"/>
            <a:ext cx="60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件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内容物足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肠道功能（肌肉张力和蠕动功能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肌肉功能正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功能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xinsimple_47203040910096252073414"/>
          <p:cNvPicPr/>
          <p:nvPr/>
        </p:nvPicPr>
        <p:blipFill>
          <a:blip r:embed="rId1"/>
          <a:stretch/>
        </p:blipFill>
        <p:spPr>
          <a:xfrm>
            <a:off x="2627280" y="2205000"/>
            <a:ext cx="5138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食因素</a:t>
            </a:r>
            <a:br>
              <a:rPr sz="2500"/>
            </a:br>
            <a:r>
              <a:rPr b="0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3" descr="14915914"/>
          <p:cNvPicPr/>
          <p:nvPr/>
        </p:nvPicPr>
        <p:blipFill>
          <a:blip r:embed="rId1"/>
          <a:stretch/>
        </p:blipFill>
        <p:spPr>
          <a:xfrm>
            <a:off x="5292720" y="3068640"/>
            <a:ext cx="3481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1343160"/>
            <a:ext cx="80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摄入的食物过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饮食过于精细少渣，长期缺乏食物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液体摄入量过少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习惯因素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工作因素，不能在有便意时及时去排便，久而久之导致排便不畅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在排便时同时做一些其他的事，比如看报、看小说、听音乐之类的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意识地抑制排便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造成排便反射感觉降低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姿势、便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W020070318390253854674"/>
          <p:cNvPicPr/>
          <p:nvPr/>
        </p:nvPicPr>
        <p:blipFill>
          <a:blip r:embed="rId1"/>
          <a:stretch/>
        </p:blipFill>
        <p:spPr>
          <a:xfrm>
            <a:off x="6084720" y="4078440"/>
            <a:ext cx="281952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活动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活动量过少，使得肠蠕动缓慢，肠内容物通过时间延长，肠内水分被过度吸收，粪便干结，通过更加受阻，从而导致恶性循环。</a:t>
            </a:r>
            <a:r>
              <a:rPr b="1" lang="zh-CN" sz="19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4498582_1"/>
          <p:cNvPicPr/>
          <p:nvPr/>
        </p:nvPicPr>
        <p:blipFill>
          <a:blip r:embed="rId1"/>
          <a:stretch/>
        </p:blipFill>
        <p:spPr>
          <a:xfrm>
            <a:off x="3419640" y="3357720"/>
            <a:ext cx="504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心理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080" y="1628280"/>
            <a:ext cx="8712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精神上受到强烈刺激、惊恐、情绪紧张或注意力高度集中某一工作等会使便意消失，形成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20060327135803688"/>
          <p:cNvPicPr/>
          <p:nvPr/>
        </p:nvPicPr>
        <p:blipFill>
          <a:blip r:embed="rId1"/>
          <a:stretch/>
        </p:blipFill>
        <p:spPr>
          <a:xfrm>
            <a:off x="4067280" y="3357720"/>
            <a:ext cx="345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20:41Z</dcterms:created>
  <dc:creator>user</dc:creator>
  <dc:description/>
  <cp:keywords/>
  <dc:language>en-US</dc:language>
  <cp:lastModifiedBy>赵欣</cp:lastModifiedBy>
  <cp:lastPrinted>1899-12-30T00:00:00Z</cp:lastPrinted>
  <dcterms:modified xsi:type="dcterms:W3CDTF">2015-12-16T08:04:34Z</dcterms:modified>
  <cp:revision>12</cp:revision>
  <dc:subject/>
  <dc:title>便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